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7.jpeg" ContentType="image/jpeg"/>
  <Override PartName="/ppt/media/image14.png" ContentType="image/png"/>
  <Override PartName="/ppt/media/image22.jpeg" ContentType="image/jpeg"/>
  <Override PartName="/ppt/media/image1.jpeg" ContentType="image/jpeg"/>
  <Override PartName="/ppt/media/image9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670675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670800" cy="977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778200" y="0"/>
            <a:ext cx="28893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891720" y="733320"/>
            <a:ext cx="4884840" cy="366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0" y="9284760"/>
            <a:ext cx="288936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778200" y="9284760"/>
            <a:ext cx="288936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0CAFC-6D09-48B3-A380-586B16AE255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STANDING HUMAN SOCIETY 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IME AND DEVIANCE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STANDING HUMAN SOCIET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IME AND DEVI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iminal Acts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ws can change. There are many examples of how deviant or criminal acts have become normalised. 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iminal A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ws can change. There are many examples of how deviant or criminal acts have become normalis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DEVIANCE?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AL ACTION THEORISTS: DEVIANCE IS SOCIALLY CONSTRUCTED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LABELLING)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IANCE IS CULTURALLY RELATIVE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FLICT THEORISTS: DEVIANCE IS SOCIALLY CAUSED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RUCTURAL INEQUALITIES)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DEVIANC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AL ACTION THEORISTS: DEVIANCE IS SOCIALLY CONSTRUC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LABELLIN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IANCE IS CULTURALLY REL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FLICT THEORISTS: DEVIANCE IS SOCIALLY CAU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RUCTURAL INEQUALIT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IN DEVIANCE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CEPTIONS AND RESPONSES TO DEVIANCE HAVE CHANGED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OLOGICAL STUDY OF DEVIANCE HAS CHANGED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IN DEVI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CEPTIONS AND RESPONSES TO DEVIANCE HAVE CHAN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OLOGICAL STUDY OF DEVIANCE HAS CHAN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IANCE AND SOCIAL CONTROL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 DEFINES DEVIANCE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IANCE CAN BE USED AS A DEVICE FOR SOCIAL CONTROL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IES TO SOCIAL NORMS AND LAWS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GITIMACY GIVEN TO SOME TO CONTROL DEVIANT BEHAVIOUR EG POLICE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IANCE AND SOCIAL 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 DEFINES DEVI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IANCE CAN BE USED AS A DEVICE FOR SOCIAL 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IES TO SOCIAL NORMS AND L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GITIMACY GIVEN TO SOME TO CONTROL DEVIANT BEHAVIOUR EG POL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IANCE AND CLASS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IANT BEHAVIOUR VIEWED DIFFERENTLY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TE COLAR CRIME SEEN AS LESS ‘DEVIANT’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ITIAL STUDIES OFTEN FOCUSED ON LOWER-CLASS DEVIANCE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IANCE AND CL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IANT BEHAVIOUR VIEWED DIFFERENT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TE COLAR CRIME SEEN AS LESS ‘DEVIANT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ITIAL STUDIES OFTEN FOCUSED ON LOWER-CLASS DEVI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ime or deviance?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edia play a major role in determining what is acceptable and not acceptable in our society.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ime or devianc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edia play a major role in determining what is acceptable and not acceptable in our socie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ime and Deviance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ime: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ct or failure to act that breaks the law of the land.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iance: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ions that do not conform to the norms or expectations of members of society.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ime and Devi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im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ct or failure to act that breaks the law of the la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ian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ions that do not conform to the norms or expectations of members of socie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groups, carry out the Quiz on Crime and Deviance.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conclusions can you draw from your discussions?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groups, carry out the Quiz on Crime and Devia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conclusions can you draw from your discussio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IME AND DEVIANCE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riminal Act can become a deviant act and some deviant acts can become criminal.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acts can be both deviant and criminal. Can you think of examples?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IME AND DEVI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riminal Act can become a deviant act and some deviant acts can become crimin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acts can be both deviant and criminal. Can you think of exampl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……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difference between a criminal act and a deviant act?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…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difference between a criminal act and a deviant ac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, in groups, discuss  worksheet 2.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d you draw any conclusions this time?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st think…..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BC - Chewin' the Fat - The Neds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, in groups, discuss  worksheet 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d you draw any conclusions this tim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st think…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BC - Chewin' the Fat - The N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s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crime a choice... or an impulse beyond the criminal’s control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gangs develop in some areas of a city and not in others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es a thief learn the tricks of the trade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employees support questionable business practices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sorts of values are held by drug traffickers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?   ?  ?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crime a choice... or an impulse beyond the criminal’s control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gangs develop in some areas of a city and not in others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es a thief learn the tricks of the trade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employees support questionable business practices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sorts of values are held by drug traffickers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?   ? 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s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es the lack of economic opportunity lead to criminality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ight the architecture of shopping malls encourage crime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has the drug user become the central target of law enforcement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es a global economy affect crime in a particular neighbourhood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es a murderer feel in the moments before killing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?  ? ?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es the lack of economic opportunity lead to criminality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ight the architecture of shopping malls encourage crime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has the drug user become the central target of law enforcement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es a global economy affect crime in a particular neighbourhood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es a murderer feel in the moments before kil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?  ?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iminal Act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ws state clearly which activities are criminal…….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rder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ft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ault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nking/driving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ugs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………..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892080" y="733320"/>
            <a:ext cx="4884840" cy="36655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iminal 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ws state clearly which activities are criminal…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au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nking/dri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u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………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72F3-710F-4320-8FF0-781C201A4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A51D-79B9-48DE-8A93-AE57510DA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5DF7-2F8D-4B0A-B0BE-08E1B5ABD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408C-4391-43D5-9BA8-FCC6B551F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43546-B5CC-4B5F-8862-FD5356CF6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98BED-5632-4180-AD71-881A81D41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AC781-2CC4-4885-9DEA-46D82481C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BEF6C-6242-407A-8D54-5B6FABC18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699DC-1E93-4051-9D72-A844B1DF7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61178-93A1-4B89-9EAA-5873C9DAF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4DF45-C3C0-4149-A697-F474DC325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55EC-975F-4D4B-BE8A-347148B51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60120-2BB5-4389-B1C7-BD956E928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402F9-96E9-4F89-BA18-F1438878F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90460-EE2A-45C4-BB13-7588B4D9E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71614-A89D-4D95-823F-F92CB9129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643F0-B783-4D51-A118-8ED6BB9F0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2FF9-4EF2-4231-B8A5-9BCDB5F04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4FBD-5D0A-4252-8E07-67309BA23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1F85-DBD1-4D62-B7D0-D1D748E80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68B8-EC10-41B3-83E3-653E8C023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6516-EDE4-4FC9-AC13-0B7C6ED0D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DC48-678A-488D-9A01-8BACEA222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86AA-4F82-4D31-818F-1FBA6CB23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8722B-6CA4-48A3-A389-90F49EF2873D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Freeform 3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48" name="Freeform 4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49" name="Freeform 5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  <p:sp>
          <p:nvSpPr>
            <p:cNvPr id="50" name="Freeform 6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0000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387B7-314B-4B4C-AD05-76631E8F34FA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bbc.co.uk/scotland/tv/chewinthefat/neds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UNDERSTANDING HUMAN SOCIETY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CRIME AND DEVI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Picture 9" descr="bell512"/>
          <p:cNvPicPr/>
          <p:nvPr/>
        </p:nvPicPr>
        <p:blipFill>
          <a:blip r:embed="rId1"/>
          <a:stretch/>
        </p:blipFill>
        <p:spPr>
          <a:xfrm>
            <a:off x="2050920" y="2565360"/>
            <a:ext cx="487692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Criminal Ac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Laws can change. There are many examples of how deviant or criminal acts have become </a:t>
            </a:r>
            <a:r>
              <a:rPr b="0" i="1" lang="en-GB" sz="3200" spc="-1" strike="noStrike">
                <a:solidFill>
                  <a:srgbClr val="ffffff"/>
                </a:solidFill>
                <a:latin typeface="Times New Roman"/>
              </a:rPr>
              <a:t>normalised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Picture 4" descr="fox"/>
          <p:cNvPicPr/>
          <p:nvPr/>
        </p:nvPicPr>
        <p:blipFill>
          <a:blip r:embed="rId1"/>
          <a:stretch/>
        </p:blipFill>
        <p:spPr>
          <a:xfrm>
            <a:off x="468360" y="5013360"/>
            <a:ext cx="1996920" cy="14349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cannabis"/>
          <p:cNvPicPr/>
          <p:nvPr/>
        </p:nvPicPr>
        <p:blipFill>
          <a:blip r:embed="rId2"/>
          <a:stretch/>
        </p:blipFill>
        <p:spPr>
          <a:xfrm>
            <a:off x="1116000" y="2924280"/>
            <a:ext cx="1428840" cy="15048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heroin"/>
          <p:cNvPicPr/>
          <p:nvPr/>
        </p:nvPicPr>
        <p:blipFill>
          <a:blip r:embed="rId3"/>
          <a:stretch/>
        </p:blipFill>
        <p:spPr>
          <a:xfrm>
            <a:off x="3635280" y="2924280"/>
            <a:ext cx="2158920" cy="15951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morphine%20tab2"/>
          <p:cNvPicPr/>
          <p:nvPr/>
        </p:nvPicPr>
        <p:blipFill>
          <a:blip r:embed="rId4"/>
          <a:stretch/>
        </p:blipFill>
        <p:spPr>
          <a:xfrm>
            <a:off x="6659640" y="306864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9" descr="1853"/>
          <p:cNvPicPr/>
          <p:nvPr/>
        </p:nvPicPr>
        <p:blipFill>
          <a:blip r:embed="rId5"/>
          <a:stretch/>
        </p:blipFill>
        <p:spPr>
          <a:xfrm>
            <a:off x="6156360" y="4797360"/>
            <a:ext cx="2603520" cy="19526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1" descr="_49654_banner"/>
          <p:cNvPicPr/>
          <p:nvPr/>
        </p:nvPicPr>
        <p:blipFill>
          <a:blip r:embed="rId6"/>
          <a:stretch/>
        </p:blipFill>
        <p:spPr>
          <a:xfrm>
            <a:off x="3059280" y="4797360"/>
            <a:ext cx="285732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WHAT IS DEVIANCE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4796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SOCIAL ACTION THEORISTS: DEVIANCE IS SOCIALLY CONSTRUCT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(LABELLING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DEVIANCE IS CULTURALLY RELATIV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imes New Roman"/>
              </a:rPr>
              <a:t>CONFLICT THEORISTS: DEVIANCE IS SOCIALLY CAUS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lang="en-GB" sz="2000" spc="-1" strike="noStrike">
                <a:solidFill>
                  <a:srgbClr val="ffff00"/>
                </a:solidFill>
                <a:latin typeface="Times New Roman"/>
              </a:rPr>
              <a:t>(STRUCTURAL INEQUALITIES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Picture 9" descr="page_1"/>
          <p:cNvPicPr/>
          <p:nvPr/>
        </p:nvPicPr>
        <p:blipFill>
          <a:blip r:embed="rId1"/>
          <a:stretch/>
        </p:blipFill>
        <p:spPr>
          <a:xfrm>
            <a:off x="1042920" y="1197000"/>
            <a:ext cx="3295800" cy="51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CHANGES IN</a:t>
            </a: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DEVIAN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4796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PERCEPTIONS AND RESPONSES TO DEVIANCE HAVE CHANG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SOCIOLOGICAL STUDY OF DEVIANCE HAS CHANG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Picture 9" descr="gangC"/>
          <p:cNvPicPr/>
          <p:nvPr/>
        </p:nvPicPr>
        <p:blipFill>
          <a:blip r:embed="rId1"/>
          <a:stretch/>
        </p:blipFill>
        <p:spPr>
          <a:xfrm>
            <a:off x="755640" y="1341360"/>
            <a:ext cx="3195720" cy="473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DEVIANCE AND SOCIAL CONTROL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4796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WHO DEFINES DEVI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DEVIANCE CAN BE USED AS A DEVICE FOR SOCIAL CONTR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APPLIES TO SOCIAL NORMS AND LAW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LEGITIMACY GIVEN TO SOME TO CONTROL DEVIANT BEHAVIOUR EG POL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" name="Picture 12" descr="clockbig"/>
          <p:cNvPicPr/>
          <p:nvPr/>
        </p:nvPicPr>
        <p:blipFill>
          <a:blip r:embed="rId1"/>
          <a:stretch/>
        </p:blipFill>
        <p:spPr>
          <a:xfrm>
            <a:off x="324000" y="2205000"/>
            <a:ext cx="2027160" cy="34560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4" descr="Video%20-%20Clockwork%20Orange"/>
          <p:cNvPicPr/>
          <p:nvPr/>
        </p:nvPicPr>
        <p:blipFill>
          <a:blip r:embed="rId2"/>
          <a:stretch/>
        </p:blipFill>
        <p:spPr>
          <a:xfrm>
            <a:off x="2700360" y="2565360"/>
            <a:ext cx="172080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0000"/>
                </a:solidFill>
                <a:latin typeface="Times New Roman"/>
              </a:rPr>
              <a:t>DEVIANCE AND CLAS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64796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Times New Roman"/>
              </a:rPr>
              <a:t>DEVIANT BEHAVIOUR VIEWED DIFFERENT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Times New Roman"/>
              </a:rPr>
              <a:t>WHITE COLAR CRIME SEEN AS LESS ‘DEVIANT’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Times New Roman"/>
              </a:rPr>
              <a:t>INITIAL STUDIES OFTEN FOCUSED ON LOWER-CLASS DEVI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Picture 6" descr="bourgeoisie"/>
          <p:cNvPicPr/>
          <p:nvPr/>
        </p:nvPicPr>
        <p:blipFill>
          <a:blip r:embed="rId1"/>
          <a:stretch/>
        </p:blipFill>
        <p:spPr>
          <a:xfrm>
            <a:off x="905040" y="1641600"/>
            <a:ext cx="3371760" cy="44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Crime or deviance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media play a major role in determining what is acceptable and not acceptable in our societ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Picture 5" descr="193299422X"/>
          <p:cNvPicPr/>
          <p:nvPr/>
        </p:nvPicPr>
        <p:blipFill>
          <a:blip r:embed="rId1"/>
          <a:stretch/>
        </p:blipFill>
        <p:spPr>
          <a:xfrm>
            <a:off x="4643280" y="2924280"/>
            <a:ext cx="3511800" cy="35114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7" descr="tabloids"/>
          <p:cNvPicPr/>
          <p:nvPr/>
        </p:nvPicPr>
        <p:blipFill>
          <a:blip r:embed="rId2"/>
          <a:stretch/>
        </p:blipFill>
        <p:spPr>
          <a:xfrm>
            <a:off x="1332000" y="3429000"/>
            <a:ext cx="2568600" cy="30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Crime and Devian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Crim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An act or failure to act that breaks the law of the lan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Devianc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Actions that do not conform to the norms or expectations of members of society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Picture 5" descr="crime"/>
          <p:cNvPicPr/>
          <p:nvPr/>
        </p:nvPicPr>
        <p:blipFill>
          <a:blip r:embed="rId1"/>
          <a:stretch/>
        </p:blipFill>
        <p:spPr>
          <a:xfrm>
            <a:off x="6588000" y="1484280"/>
            <a:ext cx="1706760" cy="2227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elton-david"/>
          <p:cNvPicPr/>
          <p:nvPr/>
        </p:nvPicPr>
        <p:blipFill>
          <a:blip r:embed="rId2"/>
          <a:stretch/>
        </p:blipFill>
        <p:spPr>
          <a:xfrm>
            <a:off x="5364000" y="4076640"/>
            <a:ext cx="1713240" cy="22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Task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n groups, carry out the Quiz on Crime and Devian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hat conclusions can you draw from your discussion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" name="Picture 9" descr="capital"/>
          <p:cNvPicPr/>
          <p:nvPr/>
        </p:nvPicPr>
        <p:blipFill>
          <a:blip r:embed="rId1"/>
          <a:stretch/>
        </p:blipFill>
        <p:spPr>
          <a:xfrm>
            <a:off x="2124000" y="2781360"/>
            <a:ext cx="2281320" cy="17114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1" descr="9am117"/>
          <p:cNvPicPr/>
          <p:nvPr/>
        </p:nvPicPr>
        <p:blipFill>
          <a:blip r:embed="rId2"/>
          <a:stretch/>
        </p:blipFill>
        <p:spPr>
          <a:xfrm>
            <a:off x="5508720" y="2708280"/>
            <a:ext cx="1771560" cy="17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33cc"/>
                </a:solidFill>
                <a:latin typeface="Times New Roman"/>
              </a:rPr>
              <a:t>CRIME </a:t>
            </a: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AND</a:t>
            </a:r>
            <a:r>
              <a:rPr b="1" lang="en-GB" sz="4400" spc="-1" strike="noStrike">
                <a:solidFill>
                  <a:srgbClr val="ff33cc"/>
                </a:solidFill>
                <a:latin typeface="Times New Roman"/>
              </a:rPr>
              <a:t> DEVIANC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4360" y="836640"/>
            <a:ext cx="77724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cc"/>
                </a:solidFill>
                <a:latin typeface="Times New Roman"/>
              </a:rPr>
              <a:t>A Criminal Act can become a deviant act and some deviant acts can become crimina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cc"/>
                </a:solidFill>
                <a:latin typeface="Times New Roman"/>
              </a:rPr>
              <a:t>Some acts can be both deviant and criminal. Can you think of example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Picture 6" descr="drugs2"/>
          <p:cNvPicPr/>
          <p:nvPr/>
        </p:nvPicPr>
        <p:blipFill>
          <a:blip r:embed="rId1"/>
          <a:stretch/>
        </p:blipFill>
        <p:spPr>
          <a:xfrm>
            <a:off x="826920" y="4437000"/>
            <a:ext cx="2028960" cy="20289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8" descr="homophobia"/>
          <p:cNvPicPr/>
          <p:nvPr/>
        </p:nvPicPr>
        <p:blipFill>
          <a:blip r:embed="rId2"/>
          <a:stretch/>
        </p:blipFill>
        <p:spPr>
          <a:xfrm>
            <a:off x="3924360" y="4869000"/>
            <a:ext cx="1333440" cy="13334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0" descr="abortion_rights"/>
          <p:cNvPicPr/>
          <p:nvPr/>
        </p:nvPicPr>
        <p:blipFill>
          <a:blip r:embed="rId3"/>
          <a:stretch/>
        </p:blipFill>
        <p:spPr>
          <a:xfrm>
            <a:off x="6012000" y="4076640"/>
            <a:ext cx="2628720" cy="26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Question……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hat is the difference between a criminal act and a deviant ac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7" name="Picture 10" descr="alcohol"/>
          <p:cNvPicPr/>
          <p:nvPr/>
        </p:nvPicPr>
        <p:blipFill>
          <a:blip r:embed="rId1"/>
          <a:stretch/>
        </p:blipFill>
        <p:spPr>
          <a:xfrm>
            <a:off x="6647040" y="3141720"/>
            <a:ext cx="2496960" cy="18460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1" descr="teen_drink%20lg_tcm5-34759"/>
          <p:cNvPicPr/>
          <p:nvPr/>
        </p:nvPicPr>
        <p:blipFill>
          <a:blip r:embed="rId2"/>
          <a:stretch/>
        </p:blipFill>
        <p:spPr>
          <a:xfrm>
            <a:off x="539640" y="3141720"/>
            <a:ext cx="1905120" cy="15336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4" descr="980623conformity"/>
          <p:cNvPicPr/>
          <p:nvPr/>
        </p:nvPicPr>
        <p:blipFill>
          <a:blip r:embed="rId3"/>
          <a:stretch/>
        </p:blipFill>
        <p:spPr>
          <a:xfrm>
            <a:off x="2771640" y="3141720"/>
            <a:ext cx="3529080" cy="26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Task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Now , in groups, discuss  worksheet 2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Did you draw any conclusions this tim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Just think…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ff4568"/>
                </a:solidFill>
                <a:uFillTx/>
                <a:latin typeface="Times New Roman"/>
                <a:hlinkClick r:id="rId1"/>
              </a:rPr>
              <a:t>BBC - Chewin' the Fat - The Ne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Ques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ff"/>
                </a:solidFill>
                <a:latin typeface="Times New Roman"/>
              </a:rPr>
              <a:t>Is crime a choice... or an impulse beyond the criminal’s control?</a:t>
            </a:r>
            <a:br>
              <a:rPr sz="2800"/>
            </a:br>
            <a:r>
              <a:rPr b="1" i="1" lang="en-GB" sz="2800" spc="-1" strike="noStrike">
                <a:solidFill>
                  <a:srgbClr val="ffffff"/>
                </a:solidFill>
                <a:latin typeface="Times New Roman"/>
              </a:rPr>
              <a:t>Why do gangs develop in some areas of a city and not in others?</a:t>
            </a:r>
            <a:br>
              <a:rPr sz="2800"/>
            </a:br>
            <a:r>
              <a:rPr b="1" i="1" lang="en-GB" sz="2800" spc="-1" strike="noStrike">
                <a:solidFill>
                  <a:srgbClr val="ffffff"/>
                </a:solidFill>
                <a:latin typeface="Times New Roman"/>
              </a:rPr>
              <a:t>How does a thief learn the tricks of the trade?</a:t>
            </a:r>
            <a:br>
              <a:rPr sz="2800"/>
            </a:br>
            <a:r>
              <a:rPr b="1" i="1" lang="en-GB" sz="2800" spc="-1" strike="noStrike">
                <a:solidFill>
                  <a:srgbClr val="ffffff"/>
                </a:solidFill>
                <a:latin typeface="Times New Roman"/>
              </a:rPr>
              <a:t>Why do employees support questionable business practices?</a:t>
            </a:r>
            <a:br>
              <a:rPr sz="2800"/>
            </a:br>
            <a:r>
              <a:rPr b="1" i="1" lang="en-GB" sz="2800" spc="-1" strike="noStrike">
                <a:solidFill>
                  <a:srgbClr val="ffffff"/>
                </a:solidFill>
                <a:latin typeface="Times New Roman"/>
              </a:rPr>
              <a:t>What sorts of values are held by drug traffickers?</a:t>
            </a:r>
            <a:br>
              <a:rPr sz="2800"/>
            </a:br>
            <a:r>
              <a:rPr b="1" i="1" lang="en-GB" sz="4000" spc="-1" strike="noStrike">
                <a:solidFill>
                  <a:srgbClr val="ffffff"/>
                </a:solidFill>
                <a:latin typeface="Times New Roman"/>
              </a:rPr>
              <a:t>?   ?  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Ques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Times New Roman"/>
              </a:rPr>
              <a:t>How does the lack of economic opportunity lead to criminality?</a:t>
            </a:r>
            <a:br>
              <a:rPr sz="2400"/>
            </a:br>
            <a:r>
              <a:rPr b="1" i="1" lang="en-GB" sz="2400" spc="-1" strike="noStrike">
                <a:solidFill>
                  <a:srgbClr val="ffffff"/>
                </a:solidFill>
                <a:latin typeface="Times New Roman"/>
              </a:rPr>
              <a:t>How might the architecture of shopping malls encourage crime?</a:t>
            </a:r>
            <a:br>
              <a:rPr sz="2400"/>
            </a:br>
            <a:r>
              <a:rPr b="1" i="1" lang="en-GB" sz="2400" spc="-1" strike="noStrike">
                <a:solidFill>
                  <a:srgbClr val="ffffff"/>
                </a:solidFill>
                <a:latin typeface="Times New Roman"/>
              </a:rPr>
              <a:t>Why has the drug user become the central target of law enforcement?</a:t>
            </a:r>
            <a:br>
              <a:rPr sz="2400"/>
            </a:br>
            <a:r>
              <a:rPr b="1" i="1" lang="en-GB" sz="2400" spc="-1" strike="noStrike">
                <a:solidFill>
                  <a:srgbClr val="ffffff"/>
                </a:solidFill>
                <a:latin typeface="Times New Roman"/>
              </a:rPr>
              <a:t>How does a global economy affect crime in a particular neighbourhood?</a:t>
            </a:r>
            <a:br>
              <a:rPr sz="2400"/>
            </a:br>
            <a:r>
              <a:rPr b="1" i="1" lang="en-GB" sz="2400" spc="-1" strike="noStrike">
                <a:solidFill>
                  <a:srgbClr val="ffffff"/>
                </a:solidFill>
                <a:latin typeface="Times New Roman"/>
              </a:rPr>
              <a:t>What does a murderer feel in the moments before kill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600" spc="-1" strike="noStrike">
                <a:solidFill>
                  <a:srgbClr val="ffffff"/>
                </a:solidFill>
                <a:latin typeface="Times New Roman"/>
              </a:rPr>
              <a:t>?  ? 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Criminal Ac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Laws state clearly which activities are criminal……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Murd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Thef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Assaul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Drinking/driv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Drug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But……….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6T14:00:17Z</dcterms:created>
  <dc:creator>aileend</dc:creator>
  <dc:description/>
  <dc:language>en-US</dc:language>
  <cp:lastModifiedBy>RomaK</cp:lastModifiedBy>
  <dcterms:modified xsi:type="dcterms:W3CDTF">2015-09-02T09:52:56Z</dcterms:modified>
  <cp:revision>18</cp:revision>
  <dc:subject/>
  <dc:title>UNDERSTANDING HUMAN SOCIETY 1</dc:title>
</cp:coreProperties>
</file>